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356-5D6E-43D8-937C-B2662E59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592-E5F8-4A86-A6CA-72A07655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681CB-1D15-4FFC-B088-809CA066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3F284-F844-433D-B64D-669A9F59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1EE02-2EAF-4CE8-A88F-869E0829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F8BFC-C4FC-40AC-9381-B79963EE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ECD80-F3EE-4FD5-9AE2-3354E208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4DEE2-3A09-45ED-8B49-CD3E2008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52108-DF22-43F0-BC2A-295A153B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40269-8BF9-4E60-889B-7743D572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55A96-2566-40B4-A0D2-D8213317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3F0D2-6450-410E-95D2-D58AFAA2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9B6-0E97-476A-976D-D0055FCE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295A0-D2A7-4292-AADB-3FFD97FB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43E96-03E9-467D-A949-4329EF67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F671D-C684-4926-82D5-D2EB3A72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E66CD-9954-4ECE-AF3E-DBD02746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4C96E-041B-466C-99C3-C5425BE5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087C1-401B-464B-85FB-B4DD3A98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3536B-820D-47C5-B249-F866104C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921FF-F1A5-482E-B086-926F79FC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607C5-28CA-4559-B68E-178B7231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23896-0AC0-4D10-B6BD-85775845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198-DEDC-4852-BA8D-93A8E679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FAEAC-C8AE-45E1-AACC-86191D68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DBB0D-3B80-4090-8802-3B00F4C8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B00A5-8984-419D-A40A-56354F93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CC7A6-1935-4BDF-B605-FB9A018C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2BD40-89A9-4F5D-A4BB-FF59AED0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03D56-27AB-4DAF-BDDC-97CD2734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367A9-F773-4955-AE49-8F61FFB3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7F18A-A911-4D0B-A146-EC02F38D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C5A92-D274-43C1-AC60-C1131087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2852D-BE10-4F08-97EE-35138DDE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A68A-2B09-405C-A680-3C891671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D6C8B-1755-478F-8E82-CEE5D0BC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2196D-D651-47F1-A2D7-032E3701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B67EB-F1F5-4B15-AA91-80F07FB0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0BF14-0996-476A-B20C-7604F8B0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A3E30-C0AD-43B7-91CF-A4D008DB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8B836-7BCF-4A7F-B46A-27549458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297EE-5694-496A-85D8-2F314390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737EB-54A9-4A96-B69D-BEAEF38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CDC23-2D89-4DB5-8AEF-6A886682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19784-EAA9-4283-96B0-E9A2F95C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0EE3-3561-4B07-926C-6E8CCF21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3EDCA-BF80-4D04-BBBE-3EF056ED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26E91-B2CE-4775-8ABD-A019524F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6EC0A-3BD4-44B9-81B3-49C21642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1A949-CBD3-4340-9CDC-BAF17639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1FCC4-4101-4DF6-89E8-A113256E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FA8D-33F2-43FF-B907-2BB52299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046D-DE66-4A1C-ADF5-95A58FDA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5BF8-67B8-414C-B564-ECE186F7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D241-5107-4218-968A-97295701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FAE5-0430-4DCF-88D3-259DAA2C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ECE-2A3A-4F1A-850B-3B323B78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5BDF-DA1B-4A0A-B6B6-AE45A378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362C-C254-4FA8-998E-44D3C78E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0480-6714-46B0-AE5A-8EC0007B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AD16-4C1C-44C1-8CBE-C250C1A7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C66B-B2D6-4476-8FCE-BA2DF634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F4A8-48D9-4BB2-8AFA-3E87AFB5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7F5C-DE2F-4394-A487-0E12D514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4986-D69E-45FD-8836-4596251B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AA41-D70E-4BEF-8C04-DF34F655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F907-FE24-4025-B24B-A270BC61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889-BF13-4EF2-B524-58759F83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6231-D969-4171-BFDA-0A648DB8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6A3C-04CA-4326-AC23-0665F397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D7DB-532C-456E-94F5-81809495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FDF7-4E97-4B53-B3BD-3FBBA254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9FFE-5646-4912-94CF-56FCCC58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4492-A3A9-488C-A477-983E6A7E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13E0-D0B2-4DEF-9C0F-BB96D4C6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DB780-A567-4136-8E0A-D9FCB98A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4EC0-8A0D-4991-A4DF-363EB2D5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AEB2A-B1C4-46B6-A7DF-7D8BE979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FF8-E161-4DEF-97AC-A1CAB198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B1F1-8AFE-4097-8DF3-1326FDDA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9214B-2D32-47F8-97FD-370B1965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53BA0-A0DE-4E64-8E7C-2F110ABD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38EA-11C7-4EAC-928B-802AB420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A0364-CCFE-458C-9C04-91B92C0E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04096-D03B-4F73-99C7-6835A7C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3637-ACA7-4599-97F9-29364731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A85DF-82E2-4744-B97C-862C7D17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DE1D1-6DFB-4BDC-8F55-F9F58A7E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49D1-E7EE-47B5-8C47-AF3775D8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963-AB92-40E6-B335-554D3635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846AA-F7FC-44B0-86A5-1E022803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8452A-5EF6-48BE-B431-8010F88C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85E2-EFF8-4044-B526-3FFA0AC4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EFDC2-C368-42B3-92D1-165E989D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C710C-B276-4CF4-96B6-FBAE0291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F0FF4-C95D-4E81-BA10-8EEDD443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C1BCD-5771-409A-B63B-5DAF27B0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87D3F-5AF5-4CCF-BA99-FB089569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730F5-836C-4E61-87CB-E28E1470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9B144-EB23-4CBC-84E5-99A6E96E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38F-470B-4351-AF9E-9B1D3120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6C7FC-7EBD-424E-8008-80863CB3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08F63-5547-45FF-88EF-8B9EDE0F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31527-A0D9-4086-A00A-78F72705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5D576-AA4A-4DBA-B23C-8032E3B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B5BA0-D1ED-40DE-B91E-B5AA4FEF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42ABC-F688-46B3-9956-C9E9F0D6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63DAE-5F94-4AB5-BA05-103EBA2C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0246F-3CE4-4F86-81D3-B20B5B90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32E82-4A5F-40F5-AE75-9881A983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11E40-6235-4B09-B0D6-80F0D70F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1A6-A260-4B6C-99C3-7A15996A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2C808-77DC-41FE-AE45-DB60E98C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A2EE0-4110-43CF-9986-1E31AC57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BCF27-AB39-4391-86FD-FB0B6886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B2CDA-7882-4144-95F0-A5914904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CF60B-827C-45B9-8603-23746DCC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D741F-C1E9-48B4-A190-BBD47CDE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0075B-7B82-49F8-8671-2B6FA274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1A289-194B-4C5D-9DDB-52AB8C04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4E0A3-ABE8-4A48-9168-9D0DAE48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293A4-962C-4651-A43B-862A763A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ECF-F300-4933-B4F5-626A205A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E789C-B4E4-411E-B0DC-A4C9768A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3B10E-4B0E-440F-AA0B-DFA5E2FD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F7536-1629-4A47-8471-CEDFD795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603FF-ACED-4C2E-A4E5-09CB6787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D96A7-6785-4D45-A7AC-1E55BD8D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1DFEF-3538-49F7-94D4-6D3D4FDB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6384E-3CAF-405E-92E0-EACDE9DE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A4742-A89B-460B-BE8C-21F34F87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46746-34B3-4C5B-B7D8-3A2BEB26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6336C-8D0D-4F87-ACDA-5A20C96E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E8D-DF3E-4EEB-88AB-89E98417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AC1D4-0A09-4EFF-8293-038DED0C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AD3A1-D84F-4777-AFF6-7F00318E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66B2E-3C44-4DD9-924D-DEE3AC38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DD17F-FFD7-456D-80D5-74F2B00C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0A742-9530-4F11-9FEA-E9FA63A1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9CC3C-5A0A-4DEC-9B0C-4CAE0046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3C439-0A0B-4556-AC8D-AF08AA3D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A668B-FE0E-43B5-A813-1523B5F4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A627D-7A95-449B-8172-0BA40896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85D39-B5CE-4F1F-84DF-72E9CDE5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AE6D-316C-4506-A35E-8A21676A528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EEEF-9C63-4F43-8C67-8100371B391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2EC0-8EB2-488D-8B24-A1F00552FD4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30B7-F817-41C6-A406-D2324A25629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32F4-D711-4176-9298-F1B2C8B1329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FBD2-28EF-407D-BAE3-F16C0A1FB10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FBE1-35BA-4357-B64C-E9338E59CA6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8450-4BC0-4D70-B9D5-C40FFB28E25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2B68-36EF-458F-B1A3-E8ABDF307E6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35A3-F04D-4680-A536-9AE3F97BC1D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C561-74C4-4B96-80C6-3A0C2140E1F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36" name="Slika 7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16BF-AFB1-4412-AE55-662C60FD605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  <a:ea typeface="Arial"/>
              </a:rPr>
              <a:t>Snag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Arial"/>
                <a:ea typeface="Arial"/>
              </a:rPr>
              <a:t>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Arial"/>
                <a:ea typeface="Arial"/>
              </a:rPr>
              <a:t>O čemu ovisi snaga?</a:t>
            </a: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306000" y="1752480"/>
            <a:ext cx="84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nag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e veća ako je vrijeme u kojem se isti rad obavi krać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"/>
          <p:cNvSpPr/>
          <p:nvPr/>
        </p:nvSpPr>
        <p:spPr>
          <a:xfrm>
            <a:off x="502200" y="342900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f6228"/>
                </a:solidFill>
                <a:latin typeface="Arial"/>
                <a:ea typeface="Arial"/>
              </a:rPr>
              <a:t>Vrijeme  (</a:t>
            </a:r>
            <a:r>
              <a:rPr b="0" i="1" lang="hr-HR" sz="2400" spc="-1" strike="noStrike">
                <a:solidFill>
                  <a:srgbClr val="4f6228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4f6228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fiz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ln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velič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vrijeme mjerimo zapornim s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mjerna jedinica sekunda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rcRect l="8028" t="0" r="0" b="0"/>
          <a:stretch/>
        </p:blipFill>
        <p:spPr>
          <a:xfrm>
            <a:off x="6215040" y="2571840"/>
            <a:ext cx="24573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4"/>
          <p:cNvSpPr/>
          <p:nvPr/>
        </p:nvSpPr>
        <p:spPr>
          <a:xfrm>
            <a:off x="380880" y="1447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snag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ja je veza između rada i sn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možemo usporediti snagu dvaju sportaš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95480" cy="4078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325764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6"/>
          <p:cNvSpPr/>
          <p:nvPr/>
        </p:nvSpPr>
        <p:spPr>
          <a:xfrm>
            <a:off x="304920" y="11430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ko možemo usporedi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n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učenika ko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avljaju jednaki rad pri penjanju uz už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24004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1179360" y="1000080"/>
            <a:ext cx="6835680" cy="137340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nag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je količnik rada 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i vremena 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tije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jega se rad oba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3216240" y="2819520"/>
                <a:ext cx="2619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nag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rije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3809880" y="4495680"/>
                <a:ext cx="14814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Arial"/>
                <a:ea typeface="Arial"/>
              </a:rPr>
              <a:t>Mjerna j</a:t>
            </a: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edinica za sna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1143000" y="1785960"/>
                <a:ext cx="1371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3429000" y="1752480"/>
                <a:ext cx="21574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žu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kun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TextBox 5"/>
          <p:cNvSpPr/>
          <p:nvPr/>
        </p:nvSpPr>
        <p:spPr>
          <a:xfrm>
            <a:off x="687960" y="3429000"/>
            <a:ext cx="49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dinica za snagu zove s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at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4"/>
              <p:cNvSpPr txBox="1"/>
              <p:nvPr/>
            </p:nvSpPr>
            <p:spPr>
              <a:xfrm>
                <a:off x="6248520" y="1752480"/>
                <a:ext cx="10476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3" name="TextBox 5"/>
          <p:cNvSpPr/>
          <p:nvPr/>
        </p:nvSpPr>
        <p:spPr>
          <a:xfrm>
            <a:off x="574920" y="5105520"/>
            <a:ext cx="8037000" cy="119124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o ili stroj ima snagu od jednog vata ako rad od jedn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žula obavi za jednu sekun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5" descr=""/>
          <p:cNvPicPr/>
          <p:nvPr/>
        </p:nvPicPr>
        <p:blipFill>
          <a:blip r:embed="rId1"/>
          <a:stretch/>
        </p:blipFill>
        <p:spPr>
          <a:xfrm>
            <a:off x="6095880" y="3962520"/>
            <a:ext cx="25448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2"/>
          <p:cNvSpPr/>
          <p:nvPr/>
        </p:nvSpPr>
        <p:spPr>
          <a:xfrm>
            <a:off x="343080" y="1523880"/>
            <a:ext cx="7611840" cy="5965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a je snaga motora koji tijekom 3 s obavi rad od 120 kJ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3"/>
          <p:cNvSpPr/>
          <p:nvPr/>
        </p:nvSpPr>
        <p:spPr>
          <a:xfrm>
            <a:off x="1219320" y="2514600"/>
            <a:ext cx="4419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120 kJ = 120 000 J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3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 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20 000 J / 3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0 000 W = 40 k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Slika 1" descr=""/>
          <p:cNvPicPr/>
          <p:nvPr/>
        </p:nvPicPr>
        <p:blipFill>
          <a:blip r:embed="rId1"/>
          <a:stretch/>
        </p:blipFill>
        <p:spPr>
          <a:xfrm>
            <a:off x="277920" y="1049400"/>
            <a:ext cx="1015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3"/>
          <p:cNvSpPr/>
          <p:nvPr/>
        </p:nvSpPr>
        <p:spPr>
          <a:xfrm>
            <a:off x="271800" y="1676520"/>
            <a:ext cx="83160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snag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čemu ovisi snaga nekog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osnovna mjerna jedinica za snag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im slovom označujemo snagu kao fizikalnu veličin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o uspoređujemo snage dvaju atletičara na utrci od 100 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Slika 1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1:32Z</dcterms:created>
  <dc:creator>Slavko</dc:creator>
  <dc:description/>
  <dc:language>en-US</dc:language>
  <cp:lastModifiedBy>Tomislav Dumančić</cp:lastModifiedBy>
  <dcterms:modified xsi:type="dcterms:W3CDTF">2019-09-17T08:57:36Z</dcterms:modified>
  <cp:revision>25</cp:revision>
  <dc:subject/>
  <dc:title>Slide 1</dc:title>
</cp:coreProperties>
</file>